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531-22FC-47D4-90AB-A649D7B3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F29-3062-4788-9E06-B7B83DFC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506-5D8F-4A2F-A7D7-F04A3836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492-D4D3-46B1-9DCF-691A5F5D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909-B88F-4445-B17A-FB3BDF95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883-7380-468E-A804-A3335226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DE9-3510-43C6-AB41-CBD709A0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CE1-35FF-424F-A05A-D3FAAEED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AC2-757C-4512-BA54-F13A3098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A0F-E688-4C70-989B-748A7290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0F4-7BCC-4AFA-A3B9-6973B5E6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942-78B6-4DBC-9154-F6710B8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302A-4E39-478D-BC9C-334A0F749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library.thinkquest.org/3096/2types.htm" TargetMode="External"/><Relationship Id="rId3" Type="http://schemas.openxmlformats.org/officeDocument/2006/relationships/hyperlink" Target="http://library.thinkquest.org/3096/2types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nvestopedia.com/terms/t/taxdeferred.asp" TargetMode="External"/><Relationship Id="rId3" Type="http://schemas.openxmlformats.org/officeDocument/2006/relationships/hyperlink" Target="http://www.investopedia.com/terms/t/taxdeferred.asp" TargetMode="External"/><Relationship Id="rId4" Type="http://schemas.openxmlformats.org/officeDocument/2006/relationships/hyperlink" Target="http://www.investopedia.com/terms/t/taxdeferred.asp" TargetMode="External"/><Relationship Id="rId5" Type="http://schemas.openxmlformats.org/officeDocument/2006/relationships/hyperlink" Target="http://www.investopedia.com/terms/t/taxdeferred.asp" TargetMode="External"/><Relationship Id="rId6" Type="http://schemas.openxmlformats.org/officeDocument/2006/relationships/hyperlink" Target="http://www.investopedia.com/terms/t/taxdeferred.asp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Investing &amp; Ret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0" y="129528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d: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r other item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ith 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.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gener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invest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the hope of making mor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ule of 7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129528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of 7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guideline for determining how many years it will take an investment to double in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culate the number of years required for an investment to double in value, divide 72 by the annual percentage rate (A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invest $1,000 at 3 percent interest, how long will it take for your money to dou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Arial"/>
              </a:rPr>
              <a:t>72/3= 24 years to $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will it take $10,000 to double at 8% inter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Arial"/>
              </a:rPr>
              <a:t>72/8= 9 years to $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the power of compound intere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Inves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0" y="129528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about various types of investments and their advantages and disadvantages go to: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library.thinkquest.org/3096/2type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 nice to your future self and save for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tiremen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01(k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efined contribution plan offered by a corporation to its employees, which allows employees to set aside tax-deferred income for retirement purposes; in some cases, employers will match their contribut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ividual retirement Account (IRA)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x-deferred arrangement for individuals with earned income and their non-income-producing spouses; growth is not taxed until money is withdrawn; contributions to an IRA are often tax-deducti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th IR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retirement account funded with after-tax dollars that subsequently grows tax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nvestment/retirement terms and definitions are available here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nvestopedia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.com/terms/t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taxdeferred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02:21:52Z</dcterms:created>
  <dc:creator>admin</dc:creator>
  <dc:description/>
  <dc:language>en-US</dc:language>
  <cp:lastModifiedBy>Leif Erickson</cp:lastModifiedBy>
  <dcterms:modified xsi:type="dcterms:W3CDTF">2011-08-03T04:35:39Z</dcterms:modified>
  <cp:revision>18</cp:revision>
  <dc:subject/>
  <dc:title>Road to Financial Maturity</dc:title>
</cp:coreProperties>
</file>